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522-3E4D-48F6-B323-89FF5E2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948-A10B-4A5B-BD71-45F1BE5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190-B897-4193-810D-AFF5D88F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34C-FF5A-4D48-B334-05B097DA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3A7-ED38-4FEC-BB22-13CEEA7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D3-10BB-4BE0-BA51-8F408EA5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C8A-D6C5-4798-B49F-B06508A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D40-DB62-41F1-88E3-0C00F07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8B5-E6B2-4E18-B064-7B72C4D3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B40-89C5-48A7-B4C3-82B80A5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CFB-F886-478C-B182-28B69E6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61C-707E-41EC-B675-40328EF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309E-8095-453D-AC58-1F70EC1DF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index.html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eptember 7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, 20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pter 1 Voc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Structure &amp;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emical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cells composed of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chemicals of life; water, carbohydrate, proteins, lipids and nucleic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Chapter 1 Vocab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 Chemic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, Al, Ne, Cl, Na, 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your element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emicalelements.com/index.html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3:39:59Z</dcterms:created>
  <dc:creator>Sterling Grade School</dc:creator>
  <dc:description/>
  <dc:language>en-US</dc:language>
  <cp:lastModifiedBy>Sterling Grade School</cp:lastModifiedBy>
  <dcterms:modified xsi:type="dcterms:W3CDTF">2010-09-07T20:21:10Z</dcterms:modified>
  <cp:revision>2</cp:revision>
  <dc:subject/>
  <dc:title>September 7th, 2010</dc:title>
</cp:coreProperties>
</file>